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B85-37A3-47C1-AAE4-B7026E83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699-4BE9-400E-95DB-59844082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F8A-B5A7-42DE-9AF8-79565B48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199-CFC3-4649-984E-4CF141D9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C83-E507-469B-970F-06A8AB61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D73-0147-4A01-B8D2-B88C8F43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0BD-3CDA-4DC3-A0D1-E64F00C8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60B-F20F-42DF-8798-8D6ACF7A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E46-1289-4CCE-8C7D-DFA7B88C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63B-7403-4717-AD0A-F7B1C2B6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BE6-1999-4217-833C-E78EB143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D98-6349-4764-92A0-53828CB4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A4B9-524E-4681-8A36-3202C6027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lackadder ITC"/>
              </a:rPr>
              <a:t>3D Slide Show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Blackadder ITC"/>
              </a:rPr>
              <a:t>Direction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k at the pictures through the 3D g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swer the questions on a separate piece of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 NOT write on Question sheet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6680" y="95400"/>
            <a:ext cx="88106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6680" y="95400"/>
            <a:ext cx="88106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6680" y="95400"/>
            <a:ext cx="88106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04840" y="95400"/>
            <a:ext cx="693432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20:57:52Z</dcterms:created>
  <dc:creator>jobert</dc:creator>
  <dc:description/>
  <dc:language>en-US</dc:language>
  <cp:lastModifiedBy>jobert</cp:lastModifiedBy>
  <dcterms:modified xsi:type="dcterms:W3CDTF">2013-04-18T13:33:55Z</dcterms:modified>
  <cp:revision>2</cp:revision>
  <dc:subject/>
  <dc:title>3D Slide Show Directions…</dc:title>
</cp:coreProperties>
</file>